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0FA597-1C27-4E59-ADAE-5E281690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30BAEE-574E-462E-955C-4F033A293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FB831A-2FF8-4DDE-A16C-9086AE763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CBB067-A175-46A4-A45D-9E224B112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7C4888-1733-41A1-B677-A0B861498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7EFA4D-267D-4D90-B02D-AA38E33829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659BE3-3226-4807-8DC4-F74E2CA082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26CF924-9771-4B4F-A529-ED8DBA445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037545-19A1-48DE-94A5-0D3938422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670438-E9FD-46C3-8AC7-B1F6BDF432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2B9107-1911-4396-AD51-4E62C1225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D697D7-A078-4183-80AD-232286234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5592DE-630D-4830-9057-849C1A0D3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C3B107-502D-4C0D-B731-EED0A334D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B9C367-E6F2-4C28-8D16-EB8F042CC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10BBA7-8205-48B9-A23B-0AE9C02C2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27B795-79E3-4882-BDC8-0B8BEC135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604-4AA7-4997-9C6C-AB3A5D3C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457-8E97-4A35-8201-28C52FF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27D-5227-4FC0-A520-BC469BFC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538-FB11-4FFF-AD33-AA026A3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D63-6904-443A-98B1-5FEA8C86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DF9-A542-4231-B1B5-C8DC0B1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8FC-9E66-435B-9B4A-7ECF18BB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FC1-D5B3-435F-BD01-A1F1221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974F-C7D8-4920-B920-F64FEB95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7FA0-1A8C-4A5F-A23B-0D4B2A3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95C-7534-4028-92D7-5D32BEC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3CD-BE06-4A2E-A3BD-2C9DEAA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04FD-A15E-4506-9C99-A55BDAD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331-06E0-4572-922C-02594B0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B515-33A1-43FA-A899-27092D2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BDF4-27D6-49EC-864B-1725C648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3D5C-3D12-47BD-AD5A-1B7022DF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9B2-E4E1-4D12-BDC3-6D47CB8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E30-6002-4744-BDB1-B344167C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991-DF85-4C50-A907-39228F1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CAD-E620-42B1-A2A2-C9F6CBC9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21D-157E-4CA2-90F8-F96C20C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3AC-7A1B-45D7-97CD-E787DD2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5B0-BD38-4AAE-B6C1-22C99A70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86B7-9EC1-45E3-BF98-58699838F6F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D8CC-C0BD-4013-B7BF-9C34D0558B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32857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What makes for ‘quality’ in Quality Teaching </a:t>
            </a:r>
            <a:br>
              <a:rPr sz="4800"/>
            </a:br>
            <a:br>
              <a:rPr sz="4800"/>
            </a:b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Revisiting the </a:t>
            </a:r>
            <a:br>
              <a:rPr sz="4800"/>
            </a:b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NSW </a:t>
            </a:r>
            <a:r>
              <a:rPr b="0" i="1" lang="en-AU" sz="4800" spc="-1" strike="noStrike">
                <a:solidFill>
                  <a:srgbClr val="ccecff"/>
                </a:solidFill>
                <a:latin typeface="Arial"/>
              </a:rPr>
              <a:t>Quality Teaching model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1. Intellectual qu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blematic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er 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ta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ubstan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orking on intellectual qu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ntify and map concept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 opportunities for students to demonstrate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lp students to ask where knowledge comes from and how we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nk higher order thinking to importa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ent on language and how it fun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 elaboration, rich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2. Quality learning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licit quality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expec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cia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s’ self-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orking on quality learning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 clear statements or examples of what constitutes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y expecting more while supporting students’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Zero tolerance of nastiness, even poking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 students to take responsibility for their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sider when choices help to increase significance and eng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3. Signific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ckground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ultural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nowledg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lus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orking on signific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nd out and draw on what kids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beyond dominant cultural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nect learning experiences and concepts wherever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pting out is not okay, include every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nect school learning to something outside of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the power of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Use planning time well: In relation to QT ask the following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do I want the students to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does that learning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m I going to get the students to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well do I expect them to do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Quality teaching in contex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hentic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ductive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ality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in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ous conceptu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792000" y="242892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819000" y="325296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ous 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825480" y="409572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714240" y="478620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Dimensions of the QT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ality learning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The NSW Model of Pedag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887560" y="2235240"/>
            <a:ext cx="4351320" cy="3784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164040" y="2568600"/>
            <a:ext cx="2850840" cy="297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3745080" y="2635200"/>
            <a:ext cx="3139920" cy="297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277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2840" y="698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ual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agogy = Instruction +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El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/Practices v Intellectual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skills v Approach to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1800" y="571320"/>
            <a:ext cx="8420400" cy="96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nale for Quality Teach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8760" y="19998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for Students and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Intellectual Dem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, Citizenship, Personal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 Professional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Relationship Between Intellectual Quality and Student Behavio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835200" y="1608120"/>
          <a:ext cx="783252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608120"/>
                    <a:ext cx="78325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4"/>
          <p:cNvSpPr/>
          <p:nvPr/>
        </p:nvSpPr>
        <p:spPr>
          <a:xfrm>
            <a:off x="638280" y="5950080"/>
            <a:ext cx="78674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room Observation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6200000">
            <a:off x="-138600" y="336312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 rot="16200000">
            <a:off x="4802040" y="3990240"/>
            <a:ext cx="330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ents’ Self Reg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Relationship Between Intellectual Quality and Student Behavio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844560" y="1635120"/>
          <a:ext cx="783288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35120"/>
                    <a:ext cx="783288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4"/>
          <p:cNvSpPr/>
          <p:nvPr/>
        </p:nvSpPr>
        <p:spPr>
          <a:xfrm>
            <a:off x="638280" y="5877000"/>
            <a:ext cx="78674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room Observation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 rot="16200000">
            <a:off x="-138600" y="336312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 rot="16200000">
            <a:off x="4802040" y="3990240"/>
            <a:ext cx="330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3:28:38Z</dcterms:created>
  <dc:creator>USD</dc:creator>
  <dc:description/>
  <dc:language>en-US</dc:language>
  <cp:lastModifiedBy>DET</cp:lastModifiedBy>
  <dcterms:modified xsi:type="dcterms:W3CDTF">2009-04-07T12:54:37Z</dcterms:modified>
  <cp:revision>27</cp:revision>
  <dc:subject/>
  <dc:title>Productive Pedagogy as a framework for enhancing teacher quality, preservice and inservice</dc:title>
</cp:coreProperties>
</file>